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028-5F64-4768-928B-49F4BF8C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4125-1D1C-4108-ACC4-81D51541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EAF6E-DCC0-4834-BBD3-45693A0F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3DFF1-EF31-4E6E-BA3D-F06D46FC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36270-DB6B-436A-81B3-C4DDB0DE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50EC9-94B2-429A-AC7B-BF1F2D33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24A02-5BB4-483E-A37E-D2580FED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57150-01A0-427F-BBBD-1BD0C174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A0D03-7D31-4962-8F5B-75E98BFC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E1745-6AE5-4200-968F-8E6B992F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9DCB7-5E7F-47D3-A0DB-F4A2ADC0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20C5F-45F6-41FE-AD99-C598EF1C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EE5-1F49-4A98-8ED6-D9DD9375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2A763-C23E-4A1E-AAA0-BB4DF894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2ED25-35A6-4E9C-B740-24BEFC82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8F3DC-655C-4704-B634-0C7866E0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05F1C-BB17-47A1-B435-7F3A91CF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9E6CB-6331-4312-B8B5-5F3DFC80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0A27C-2EFF-4664-9E23-795853C5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237E2-02C3-449F-B059-44EE914F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B3E91-2C3D-40D4-9473-37D5823B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19BFB-55C7-4D2D-9E3D-9E51151F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3A9D4-1BD0-44D1-A157-7DC3CA42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D72A-2FF1-47EC-A9CD-3D742326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7717E-609A-4ABA-96DC-56DD3685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55847-91A6-4B4F-A7B4-EB9BE262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309EB-CD1E-44F7-8D1B-F81E320F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66103-B3E3-4C20-B2C9-E852D5C0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24EC7-B77C-4D7D-8F43-969AFA82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18DF6-F7D8-4B6F-8BD7-F1C674CD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4C115-82EC-45EB-8023-F8F51CB0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2103D-8205-4C4B-B6E9-30167EB0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F1078-F2D6-43AF-AD2C-3397EC52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FBFEC-727E-42DF-8F3C-3C55541F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CF1E-905A-46A4-8A1A-27B0399C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75458-9E2E-4F89-9F77-D5962241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34E33-29B4-4EAB-AADF-541D1C5C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CC75B-409A-44DE-96EE-F01FF29B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F7B70-1CC0-4F8D-96D7-15DB7138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72842-9FC5-4088-87D7-EB01F2A1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93A31-EFB2-40D4-A438-91972A5D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6C42C-BA0A-4A9D-B089-68B7A579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07236-5791-4923-AA73-09DE26DA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79C47-11D8-4451-8495-6C339D78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655F1-F9EA-4FE1-9485-DE6A8254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F854-39B8-401B-A875-8E586FC6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4FFCC-2991-4BFA-A5AD-BAD6F8B8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1371F-F16C-4385-9AE6-B9482CE7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969E0-6581-4369-A0BA-61C14D2E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48853-170F-4789-994E-460E5333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F8805-AF33-4D0B-9A3D-A53D7C26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EF1B-EB08-4E04-A99B-440528D6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FE68-3B3B-43B0-B5E1-9AA65874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4236-230E-44AC-8ED2-5F9B5D03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A3E9-7B9F-4BED-B214-7275D0E6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6A7E-6415-4D5C-BD64-51C9F510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B049-A332-47FB-A928-E0739855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26CF-1629-4DE5-8FD0-E369C845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C86E-FCCC-4D40-9FE1-6E08076A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CF9C-40D0-4294-A349-7CE3EEEF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EBED-8970-4702-AF60-1A6A8CA9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A944-D1A0-479D-878F-36E0D35F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3FB44-7FC9-40FA-A5DC-3AF2B649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E93FE-9894-458C-B07A-1533A6F2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8A30D-0ABA-42EF-900C-F385AB94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8A3E3-84C5-4E19-AF81-55A863F5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7E80F-594E-4267-A8C5-3E6F8127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74F-BC4B-47E0-B839-26BB180C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00CD0-86C3-4B38-95D7-F43D1E89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FC030-5796-4262-A451-BF857092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4F665-3325-468C-AF92-D717D27F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1D159-ADD9-41D3-B420-D2092B23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7D851-88E3-41E4-AB62-D4AF3C5D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CE8DE-CA9B-4374-9DD8-0F55EFEC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EBD8A-742C-47F9-926D-E64C76A7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3CE53-0B49-48AE-8928-94007CBD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8D229-92C4-4D3D-848F-806C05F2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AC934-1123-43CB-8397-BBD90AD6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073-41FD-4D62-896D-05317CEF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5F4BD-2F9F-494F-94A6-04D9F69E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882C1-08ED-4ACB-B2C3-61773475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0143F-80B9-4441-B99D-2BDEB85A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CC12C-8E0B-4846-8FA5-6DF0AD58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6422E-91FE-4D37-A63E-DAAB2A22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6D6AC-8629-432F-96CE-7E39E8D7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88D25-205A-4AFF-B99B-DA5F4088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C5BF1-646D-434E-A437-14F14FF2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4FC80-EBCD-448D-B31D-8D181D20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6EB82-8249-416C-829F-A77190EB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3B9F-63BB-43AC-A0E3-13022AEB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FF791-F62C-4232-9E3F-B49E5D10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08F6A-0AA9-4966-9E9D-A017F644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29D44-887C-434A-A61C-3C94F21F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E9915-3225-41C6-B979-74B7BF62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97827-D146-427C-AB4C-403DDD3E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7CFBF-E820-4338-8AB0-A5746A41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091C3-4465-4C46-87B5-81777C94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66001-261C-4718-9D19-490AEBB7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4A185-79CE-469A-A6DD-E08C2F0E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271B7-1E8C-4552-B40F-86845A28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FC3-10A4-46DA-838F-A40A45EF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75A90-B4F0-499E-9FC9-4F23713D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9B28F-6B0E-49FF-A47F-86B9C493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5EED5-11D8-4E51-877A-5F68472D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FED86-DFDB-4583-894D-999E5DCA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6DC0B-0522-45FD-A7A9-9BFE9587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4F46C-B950-409A-9A1F-70431A20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9732A-638B-48B9-BBEA-AF9EE7A7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623F2-660B-4660-A6BA-A0B97E7B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D00E7-3BFC-4409-9B74-9C20BFD0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435BE-2D59-4E47-8B8B-D8543BF0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539B-A32E-4755-AFFD-DECBF29A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8383B-046D-4534-8597-190A779D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90241-4F38-411B-88B5-725817E9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1913D-3BD4-4F42-A946-D2A9B759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20CFA-B7B7-4CFE-824F-EFF893B3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56826-BA01-467D-B32F-BBB33C97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106F8-DB42-4672-89AD-30BF41E0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BF867-A6CC-4776-BBE4-37864D8F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88559-DDF1-4E8A-9B2B-C88C3E55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84AC3-5E10-46E1-B76F-D75AD67A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1BE9F-199D-48B9-8EB5-1AD14894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D83-479B-439F-94F5-4B72C277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AF44B-EFFD-43E2-AFA3-C6A6770C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23B51-917E-4EC3-A54C-5C6173BA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62898-417D-4856-8A7A-E29FDBE7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A0AFE-B725-4FCC-B351-C42F5B63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E22C5-F544-48B2-BAC5-16484B63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0C300-0B18-4FBC-ACD9-3D34FEC5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B989F-5F7C-4D3B-82F5-5411A2C3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BD5A1-0C20-454F-8418-A704C68D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40A42-503D-4F03-AEB9-D90526FE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91A02-5F4F-4E50-9F4A-891EF7D6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269B-B7A9-4FF2-AC14-6BBCD74C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36E36-52CA-4EE1-BE10-6A11E312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D9768-AE27-46A8-B944-0BA9364B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7224F-6E23-42C8-A95C-8AB8BE0A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08F0C-B671-4928-AF77-8BE21A58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75B3C-BE58-4A48-A9CF-82DA22CE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DD950-A892-41CA-87A9-C1656734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A74F7-E4E5-4DA6-90C8-B7024BC0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6459A-404B-4461-978F-712BD47E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2E7C8-99DE-402C-963F-9B255CC7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627AC-29C6-4172-A44F-A19DB164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0678-EFB2-46C9-A617-736C141D554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FAA3-F3EC-438C-A8F9-369A77EB556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5618-171D-40F9-ACA5-FEE3D14632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96BC-6207-4122-A2C5-0BB447C5066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3454-2B5B-4D36-82D5-C8A7BC5F0E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1AA2-B869-4CA3-9EEB-61E41AAA9F1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45CA-A3C2-4D9B-9DA6-F0B65EEC625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AF05-82D1-4DDF-93A8-1A124F2DAA0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0305-79F5-47B4-BED4-1798DF6802E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FF58-77C8-4C00-BC10-D26481236F5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BA63-6AE4-4406-9671-9D06ACFC7B8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1ABA-9E8A-4078-8D17-E49DE151C92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11 Buď požehnaná hod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požehnaná hodina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kláňam svoje kole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zývam Tvorcu mocné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ilu čerpám od ne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k modlitbe sa utiek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okušeniu unik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v každom žiali, súže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techa mi pra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vzácna chvíľa modlitieb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teba milšej, drahšej ni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chválim Otca na neb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pozná moje potreb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otvorenú náruč m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láskavo ma prijím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o všetkým sa mu zveruj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prosbe bližšie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emu ľn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teba, chvíľa prosieb, m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Duch Božím viesť sa d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m požehnanie prijím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Pánovi sa rad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č viac si nad to nece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zhovárať sa môžem s 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rúcne za to ďakuj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jeho sľubom veriť smie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4:17:53Z</dcterms:modified>
  <cp:revision>15</cp:revision>
  <dc:subject/>
  <dc:title>Je veľký náš Pán, on slávy je Kráľ Nech do všetkých strán  spev vrúcnych znie chvál.</dc:title>
</cp:coreProperties>
</file>